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416-8C16-4746-882E-4F1AA23B6F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28FE-05E9-42B7-9B7F-289B7B439B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527-9DCD-4DBA-9F67-D264315A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885-9948-441C-B935-F4B78A2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784-E9BA-445E-A630-B2C37F82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F96-5CF3-496A-B767-0D827E3B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8088B-DB46-44B1-B5CA-FB8CDA49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5C92B-D5D8-4E8E-B6FD-341B531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72014-588D-4864-8D77-C5B03B8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C8AB8-05BB-4D02-9503-292C6774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FE2F0-352C-447F-9AB0-0345E06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7840A-E7D5-404B-AF7D-0BD98105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2B04-BC60-49B9-9063-BBB406E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C34-857A-4E6A-8953-C931B16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36C1-207F-4419-96F0-565B47B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1DD9-296D-40D1-BBD8-D216217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BC72-A359-44EB-86AF-435C3A3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237D-D689-41D7-A5B5-47EEF608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A1588-CB25-4064-B333-ADC57513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938C7-EA33-436A-A687-3C0DF5E8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B2987-A3E4-4435-95F0-FEB18BA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4C995-7D30-4485-B7AD-04ECD222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B028B-7965-4465-8262-3EE5E68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2FCF5-0FD3-4EF9-BAD6-7833AB7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02B-6862-4D3E-9A57-6D18B8B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A4B5A-EB17-478B-B81A-308B2991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A6EB9-848F-4A80-8643-29EBE9A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B3E52-4D24-44B9-9356-EA86E24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6ECA5-5482-4884-ABE1-514493B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9BBAA-E2F8-43CB-91F3-8816E75F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AF8FB-297C-4D9B-AD9F-DF7C94A5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124DF-56D4-4F65-A3F3-67B47E18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E48F-20BC-4A5C-AF66-A30E9D2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5DF6-B931-4CCC-9926-E2F9384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2D1D-56C6-43B5-B232-F5E647C4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AD8-61F5-4FAE-86E2-1B3E055A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A310-E9B2-440A-AD1F-DD2F603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916E-C17B-4828-8105-B7DABCA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EE8E-77CF-40C6-A50C-12848B9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BE5F-2FAC-4B49-8219-9351247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F056-697E-4123-91F9-35AA1FC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D2F3-2185-43C8-A302-1EF6B56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48F9-ECAC-497C-B286-DF9341DE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D4F62-CD06-49C8-8090-A8393BF2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D7C72-22F0-4CB5-95B7-6607C827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7568-7753-484D-8A72-73880DDD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598-9AA1-44CE-8E3E-028D6E1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02E5-8EAD-4F78-80B5-0BF5237A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BF5F5-B2CE-49C3-8B51-B44404BF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09F6-D0CA-4756-AAB5-A275994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6B09-DDA1-42D9-AA23-0E359F3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F32D-BD11-43C0-9AB5-28ED47BF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8B88-30F7-469B-B65B-ECABFF9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B25D-7687-4BFA-BF01-45E193AE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4D79-8B0E-4220-ADDE-0A23CC7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2D41-D1C8-4F9A-8157-7CBE593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AF74-A889-4075-9AD2-4BD8FA6D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A08-EFB3-4E83-8BF9-8560511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08FB-CF87-4B55-B290-C1E3445E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8F44-87C5-4B2D-96F5-43DBC783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A4B8A-2D33-44EC-ADC0-F47BC4C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80D2-E07D-44AA-9571-221DAC50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95B3-DE22-44F0-96FF-1A5FD90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FC376-EC0F-47AC-A6B3-DFB66CC6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6537-17A9-4083-9721-E51F2FEC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BD12-CA15-4E92-B383-0F42D70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9DF0-8D70-4409-9CB7-9CD6220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CB85-D75D-442E-8473-2D6B01E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03F-0F0F-424A-BD49-F1D2EB2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9CC5-767A-4BF8-9E76-01C7BDB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F0B5-DEF3-4D72-9A68-6586BC3C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1EB27-767F-4326-8065-F2A9813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D27F-58D9-4AB6-883B-D306B0E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21ED-ACC2-4603-9BAF-F8AA0362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1FCD-028F-4C4A-83F3-4DCD554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B30B3-F71B-4DA1-915D-459D8F4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8FEF-6F0C-41C1-8636-0C05B95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A502-AB1B-45C6-BC4C-40F1EC5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9819-7645-4F33-A031-1FB20A9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ADC-45C8-49CB-84B3-821C8FE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7F7A-06DA-4FC9-9FE2-5AFD78B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3D3E-B4AF-4CC3-ADC4-25B410B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5E60-82D0-4BB8-B479-CB1DE5B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7A06-CFBD-476F-98FA-BF3BA576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C41F-5D71-48D7-9AA0-B6EE2488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260-7ACD-4816-8637-155BC8D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BD1-3E13-4FB8-99BF-C84E07859DCA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C4B0-BECE-48B8-B0B4-0B9CEB990C2B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E49-EBB2-44A6-8A2A-112F3783750E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A9EB-9CB3-4F2B-8301-E1229F82FD15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D56-13B4-4ED4-A85A-06AAC2D1959F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B93-0813-4C22-ADFD-D6B4F78FBED9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CF7-639F-4E2B-BBB6-30E8505861BE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Franklin Gothic Medium"/>
              </a:rPr>
              <a:t>Chapter 2: Understanding Youth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AREA OF STUDY 2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YOUTH HEALTH AND DEVELOPMENT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360"/>
            <a:ext cx="84074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riod of the human lifespan between the ages of 12 and 18 year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transition between childhood and adulthood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ther words for youth include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eenager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adolescents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Early Youth: age 12-14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Middle Youth: age 15-16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Late Youth: age 17-18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DEFINING YOUTH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PAGE 30-3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44960" cy="516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324000" y="797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What experiences have you had so far that signify you are experiencing a transition phase from childhood to adult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Medium"/>
              </a:rPr>
              <a:t>Many changes occur during youth</a:t>
            </a:r>
            <a:r>
              <a:rPr b="0" lang="en-AU" sz="3200" spc="-1" strike="noStrike">
                <a:solidFill>
                  <a:srgbClr val="00b0f0"/>
                </a:solidFill>
                <a:latin typeface="Franklin Gothic Medium"/>
              </a:rPr>
              <a:t>, can you identify some of these changes?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changes that occur as part of youth development can be grouped as: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hysic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ci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tellectu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YOUTH DEVELOP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989000"/>
            <a:ext cx="840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hysical development during youth is rapid, including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size of bones and muscl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height and weig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xual development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imary sexual development (sex organ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Secondary sexual development (other changes – e.g. hair, development of breasts and widening of hips in females, deepening of voice and broadening of shoulders in male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2 Questions 1-6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3 Questions 1-5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Franklin Gothic Medium"/>
              </a:rPr>
              <a:t>Homework</a:t>
            </a: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: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Read page 38-43 and answer Activity 2.4 (pg 43-44) Questions 1-7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HARACTERISTICS OF PHYSICAL DEVELOPMENT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PAGE 34-43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n important part of youth development is forming social relationship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er-group relationships are critical as is establishing an identity and being accep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Self-esteem is a key characteristic of youth development, how might positive self esteem develop in youth? What about  negative self esteem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34949"/>
                </a:solidFill>
                <a:latin typeface="Franklin Gothic Medium"/>
              </a:rPr>
              <a:t>Activity 2.5 (pg 46) Questions 1-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SOCI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ccurs as an individual develops the capacity to think in broader terms, to conceptualise complex issues and to see how things are connec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Youth intellectual development is not only represented by academic success, how else might it be represented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3912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INTELLECTU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youth stage of the lifespan is characterised by individuals increasingly understanding their emotion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 development includes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changing relationship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eeting basic need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grief and lo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Coping with stre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6784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EMOTION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28T04:42:54Z</dcterms:modified>
  <cp:revision>38</cp:revision>
  <dc:subject/>
  <dc:title>Slide 1</dc:title>
</cp:coreProperties>
</file>